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1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4E8-820C-4AA9-99D2-08EB953A9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185E-F2B0-41DD-945E-8AB318C2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66B-2767-4DB8-9A2B-C8FAE61CAA5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F16-E172-4003-B7E6-61F2354C462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DFE-63E7-443E-9993-76360BFF7CE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ADE-ED11-47D9-AAA7-105604BDF3B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623-E090-4413-AE95-775ACF17E0E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BE3-1DD1-411B-920C-D459DD5B9EC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966-E799-497F-871D-7B0D532E0DB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8D0E-7321-4867-9C53-3287BBB167B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904-DECC-45E9-9EBB-722D93CE465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d to make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 loves M&amp;Ms and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practice our Numbers with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 is going to be very helpful to us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32A-9E9D-4AEA-B521-B35B4E68F89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9B4-FF3F-45B8-A370-29440C09484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formatting so spanish comes first and then english …add symbols &amp;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12C-4FA0-4D8B-87B5-0E896DCEB76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EB2-CCD0-47AB-9B22-5083BDDC7AB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339-FC1C-462C-B083-04A26DF7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764-B7ED-45F1-80A6-B6E6729F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16C-D7E2-4F20-9669-0CF56DC7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390-5175-4B07-9D66-098EA6D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28D-D07C-4DF2-8710-BD2CD08C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C9AF-A230-4AC1-AD1A-2F0DFB72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003-8066-4950-8154-65C0A08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D249-D357-44DB-A706-BA630FC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7C8-C937-43D6-A0F5-6A949CC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F2FA-E08C-4168-931A-82D3649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15C8-190E-4620-9662-2F4D921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4D0-E6E1-45E2-9AA1-86E5AD3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7D69-3CFA-4527-BA5C-720B03D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4AD-C61A-4130-B96B-351CEB7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FB58-27F0-4220-82B1-84030A4F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01C3-D060-44F5-BAA5-0ABCDFF5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A1FD-6515-465E-B251-BFED6A57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5DC-9AF5-4257-A06E-3B340BE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0B9-ACC9-44EA-A405-BAE6435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49E-C2FE-4EC5-AD49-FD1910B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C67-4A4D-409A-94A1-359FEDB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8BC-08D9-4045-BDB6-CBA7D385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6B4-41F5-4A1C-97B1-11C2EAEE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061-296E-4705-8093-16165A1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E2A-D1E7-4813-B35E-D2B97DA06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9ABC-6D04-42CD-A503-DEB599AA34D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Haciendo Comparaciones</a:t>
            </a:r>
            <a:br>
              <a:rPr sz="4400"/>
            </a:b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s-AR" sz="3600" spc="-1" strike="noStrike">
                <a:solidFill>
                  <a:srgbClr val="660066"/>
                </a:solidFill>
                <a:latin typeface="Tahoma"/>
              </a:rPr>
              <a:t>Para Nivel Prima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egan Kerste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Rebecca Single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Carrie Hin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alerie Hugu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4572000" y="2971800"/>
            <a:ext cx="3956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22 0.16709 C -0.20365 0.02404 -0.1559 -0.11902 -0.09306 -0.1798 C -0.03021 -0.24058 0.06979 -0.26739 0.12552 -0.19829 C 0.18125 -0.12919 0.25729 0.2355 0.24184 0.23504 C 0.22639 0.23458 0.11146 -0.19598 0.03246 -0.20152 C -0.04653 -0.20707 -0.19045 0.13659 -0.23264 0.20107 C -0.27483 0.26555 -0.2191 0.18466 -0.22101 0.18558 C -0.22292 0.18651 -0.24045 0.20361 -0.24427 0.20731 E">
                                      <p:cBhvr>
                                        <p:cTn id="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805280" cy="2740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09480" y="5486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990720" y="5715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Cuatro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nueve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805280" cy="2740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533520" y="5486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1600200" y="5715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os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seis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609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4805640" cy="2740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2286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1828800" y="5715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Ocho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uno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3808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0"/>
          <p:cNvGrpSpPr/>
          <p:nvPr/>
        </p:nvGrpSpPr>
        <p:grpSpPr>
          <a:xfrm>
            <a:off x="2557440" y="1184760"/>
            <a:ext cx="4135680" cy="3590280"/>
            <a:chOff x="2557440" y="1184760"/>
            <a:chExt cx="4135680" cy="3590280"/>
          </a:xfrm>
        </p:grpSpPr>
        <p:pic>
          <p:nvPicPr>
            <p:cNvPr id="308" name="Picture 1" descr="Raised Fist Clip Art"/>
            <p:cNvPicPr/>
            <p:nvPr/>
          </p:nvPicPr>
          <p:blipFill>
            <a:blip r:embed="rId1"/>
            <a:stretch/>
          </p:blipFill>
          <p:spPr>
            <a:xfrm rot="6621600">
              <a:off x="3507120" y="920520"/>
              <a:ext cx="1639080" cy="31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Raised Fist Clip Art"/>
            <p:cNvPicPr/>
            <p:nvPr/>
          </p:nvPicPr>
          <p:blipFill>
            <a:blip r:embed="rId2"/>
            <a:stretch/>
          </p:blipFill>
          <p:spPr>
            <a:xfrm flipH="1" rot="14978400">
              <a:off x="4104000" y="1872360"/>
              <a:ext cx="1639080" cy="31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7"/>
            <p:cNvSpPr/>
            <p:nvPr/>
          </p:nvSpPr>
          <p:spPr>
            <a:xfrm>
              <a:off x="2590920" y="1676520"/>
              <a:ext cx="745560" cy="25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5883840" y="1849320"/>
              <a:ext cx="745560" cy="25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2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igual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a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762120" y="5943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1828800" y="5715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iez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iqual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iez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990720" y="4567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15228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 10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&amp;M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j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# ____ amarill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# ____ azu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_________ es ________ que/a _________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4038480" y="3429000"/>
            <a:ext cx="1143000" cy="1066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1981080" y="18288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6400800" y="1676520"/>
            <a:ext cx="304920" cy="30456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2743200" y="20574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2209680" y="23623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1600200" y="2438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2514600" y="2819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1981080" y="29718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6858000" y="2209680"/>
            <a:ext cx="30492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6324480" y="2209680"/>
            <a:ext cx="30492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914400" y="349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6400800" y="349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TextBox 16"/>
          <p:cNvSpPr/>
          <p:nvPr/>
        </p:nvSpPr>
        <p:spPr>
          <a:xfrm>
            <a:off x="3962520" y="2736720"/>
            <a:ext cx="1600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3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Box 17"/>
          <p:cNvSpPr/>
          <p:nvPr/>
        </p:nvSpPr>
        <p:spPr>
          <a:xfrm>
            <a:off x="838080" y="47163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Se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Box 18"/>
          <p:cNvSpPr/>
          <p:nvPr/>
        </p:nvSpPr>
        <p:spPr>
          <a:xfrm>
            <a:off x="3352680" y="47023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mayor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Box 19"/>
          <p:cNvSpPr/>
          <p:nvPr/>
        </p:nvSpPr>
        <p:spPr>
          <a:xfrm>
            <a:off x="6477120" y="4702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cuatro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://openclipart.org/people/xeolhades/xeolhades_mouth.png"/>
          <p:cNvPicPr/>
          <p:nvPr/>
        </p:nvPicPr>
        <p:blipFill>
          <a:blip r:embed="rId1"/>
          <a:stretch/>
        </p:blipFill>
        <p:spPr>
          <a:xfrm>
            <a:off x="1905120" y="335268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úmeros con sí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,2,3,4,5……         &gt;,&lt;,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, habla, escribe sí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asamos los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685800" y="3733920"/>
            <a:ext cx="1828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Picture 4" descr="C:\Program Files\Microsoft Office\MEDIA\CAGCAT10\j0299125.wmf"/>
          <p:cNvPicPr/>
          <p:nvPr/>
        </p:nvPicPr>
        <p:blipFill>
          <a:blip r:embed="rId4"/>
          <a:stretch/>
        </p:blipFill>
        <p:spPr>
          <a:xfrm>
            <a:off x="1066680" y="31240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689280" y="3276720"/>
            <a:ext cx="730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aflourescentadolescent.files.wordpress.com/2010/05/animal-bands1.jpg"/>
          <p:cNvPicPr/>
          <p:nvPr/>
        </p:nvPicPr>
        <p:blipFill>
          <a:blip r:embed="rId1"/>
          <a:stretch/>
        </p:blipFill>
        <p:spPr>
          <a:xfrm>
            <a:off x="4800600" y="380880"/>
            <a:ext cx="35910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1"/>
          <p:cNvGrpSpPr/>
          <p:nvPr/>
        </p:nvGrpSpPr>
        <p:grpSpPr>
          <a:xfrm>
            <a:off x="-2209680" y="-1752480"/>
            <a:ext cx="5876640" cy="5943600"/>
            <a:chOff x="-2209680" y="-1752480"/>
            <a:chExt cx="5876640" cy="5943600"/>
          </a:xfrm>
        </p:grpSpPr>
        <p:pic>
          <p:nvPicPr>
            <p:cNvPr id="220" name="Picture 2" descr="http://aflourescentadolescent.files.wordpress.com/2010/05/animal-bands1.jpg"/>
            <p:cNvPicPr/>
            <p:nvPr/>
          </p:nvPicPr>
          <p:blipFill>
            <a:blip r:embed="rId2"/>
            <a:stretch/>
          </p:blipFill>
          <p:spPr>
            <a:xfrm>
              <a:off x="76320" y="-1752480"/>
              <a:ext cx="35906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9"/>
            <p:cNvSpPr/>
            <p:nvPr/>
          </p:nvSpPr>
          <p:spPr>
            <a:xfrm>
              <a:off x="0" y="-1752480"/>
              <a:ext cx="3657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-2209680" y="304920"/>
              <a:ext cx="3657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5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44956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800600" y="22096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Picture 2" descr="http://newleafnews.files.wordpress.com/2009/08/rebounder_kara-exercising-mini-trampoline.jpg"/>
          <p:cNvPicPr/>
          <p:nvPr/>
        </p:nvPicPr>
        <p:blipFill>
          <a:blip r:embed="rId1"/>
          <a:stretch/>
        </p:blipFill>
        <p:spPr>
          <a:xfrm>
            <a:off x="6172200" y="2057400"/>
            <a:ext cx="1371600" cy="2073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jumpingtrampoline.com/images/16-5-main.jpg"/>
          <p:cNvPicPr/>
          <p:nvPr/>
        </p:nvPicPr>
        <p:blipFill>
          <a:blip r:embed="rId2"/>
          <a:stretch/>
        </p:blipFill>
        <p:spPr>
          <a:xfrm>
            <a:off x="609480" y="1523880"/>
            <a:ext cx="3962520" cy="461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1600200" y="914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Picture 2" descr="http://www.yugatech.com/blog/wp-content/uploads/2006/09/ipod-nano.jpg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cheepees.ca/upload/ipod-nano-pink.png"/>
          <p:cNvPicPr/>
          <p:nvPr/>
        </p:nvPicPr>
        <p:blipFill>
          <a:blip r:embed="rId2"/>
          <a:stretch/>
        </p:blipFill>
        <p:spPr>
          <a:xfrm>
            <a:off x="1219320" y="1792440"/>
            <a:ext cx="2241360" cy="2779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5867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09480" y="183816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n bols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queño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d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M y M’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5257800" y="1752480"/>
            <a:ext cx="31240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Un bolso </a:t>
            </a:r>
            <a:r>
              <a:rPr b="1" lang="en-US" sz="4800" spc="-1" strike="noStrike">
                <a:solidFill>
                  <a:srgbClr val="40458c"/>
                </a:solidFill>
                <a:latin typeface="Tahoma"/>
              </a:rPr>
              <a:t>grand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d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 y M’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Picture 9" descr="big m and m.jpg"/>
          <p:cNvPicPr/>
          <p:nvPr/>
        </p:nvPicPr>
        <p:blipFill>
          <a:blip r:embed="rId1"/>
          <a:stretch/>
        </p:blipFill>
        <p:spPr>
          <a:xfrm>
            <a:off x="4952880" y="36068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big m and m.jpg"/>
          <p:cNvPicPr/>
          <p:nvPr/>
        </p:nvPicPr>
        <p:blipFill>
          <a:blip r:embed="rId2"/>
          <a:stretch/>
        </p:blipFill>
        <p:spPr>
          <a:xfrm>
            <a:off x="1523880" y="42926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7315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¡Les presento a ALE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24360" cy="4489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 flipH="1">
            <a:off x="1447920" y="1905120"/>
            <a:ext cx="30240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http://openclipart.org/people/xeolhades/xeolhades_mouth.png"/>
          <p:cNvPicPr/>
          <p:nvPr/>
        </p:nvPicPr>
        <p:blipFill>
          <a:blip r:embed="rId1"/>
          <a:stretch/>
        </p:blipFill>
        <p:spPr>
          <a:xfrm>
            <a:off x="1905120" y="335268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úmeros con sí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,2,3,4,5……         &gt;,&lt;,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, habla, escribe sí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85800" y="3733920"/>
            <a:ext cx="1828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4" descr="C:\Program Files\Microsoft Office\MEDIA\CAGCAT10\j0299125.wmf"/>
          <p:cNvPicPr/>
          <p:nvPr/>
        </p:nvPicPr>
        <p:blipFill>
          <a:blip r:embed="rId4"/>
          <a:stretch/>
        </p:blipFill>
        <p:spPr>
          <a:xfrm>
            <a:off x="1066680" y="31240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689280" y="3276720"/>
            <a:ext cx="730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9"/>
          <p:cNvGrpSpPr/>
          <p:nvPr/>
        </p:nvGrpSpPr>
        <p:grpSpPr>
          <a:xfrm>
            <a:off x="7143840" y="3844800"/>
            <a:ext cx="1650600" cy="1472760"/>
            <a:chOff x="7143840" y="3844800"/>
            <a:chExt cx="1650600" cy="1472760"/>
          </a:xfrm>
        </p:grpSpPr>
        <p:pic>
          <p:nvPicPr>
            <p:cNvPr id="254" name="Picture 1" descr="Raised Fist Clip Art"/>
            <p:cNvPicPr/>
            <p:nvPr/>
          </p:nvPicPr>
          <p:blipFill>
            <a:blip r:embed="rId1"/>
            <a:stretch/>
          </p:blipFill>
          <p:spPr>
            <a:xfrm rot="6622200">
              <a:off x="7509240" y="3755520"/>
              <a:ext cx="68292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Raised Fist Clip Art"/>
            <p:cNvPicPr/>
            <p:nvPr/>
          </p:nvPicPr>
          <p:blipFill>
            <a:blip r:embed="rId2"/>
            <a:stretch/>
          </p:blipFill>
          <p:spPr>
            <a:xfrm flipH="1" rot="14977800">
              <a:off x="7745760" y="4151520"/>
              <a:ext cx="682920" cy="12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"/>
            <p:cNvSpPr/>
            <p:nvPr/>
          </p:nvSpPr>
          <p:spPr>
            <a:xfrm>
              <a:off x="7162920" y="4038480"/>
              <a:ext cx="295200" cy="107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8467920" y="4110480"/>
              <a:ext cx="295200" cy="107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labras de 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or qu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bigger tha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or qu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small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gual 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equal 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ison Intro Vi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7315200" y="1755720"/>
            <a:ext cx="1197000" cy="682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5105520" y="2971800"/>
            <a:ext cx="1197000" cy="682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6324480" y="13716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324480" y="25909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6324480" y="37339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586728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bo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Straight Connector 11"/>
          <p:cNvSpPr/>
          <p:nvPr/>
        </p:nvSpPr>
        <p:spPr>
          <a:xfrm>
            <a:off x="838080" y="2743200"/>
            <a:ext cx="762012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838080" y="3960720"/>
            <a:ext cx="762012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962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*Escribe en Notas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429000" y="0"/>
            <a:ext cx="609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07378 -0.00579 E">
                                      <p:cBhvr>
                                        <p:cTn id="18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-0.00578 L 0.00122 -0.00046 E">
                                      <p:cBhvr>
                                        <p:cTn id="193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0.08455 -0.00532 E">
                                      <p:cBhvr>
                                        <p:cTn id="21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0532 L 0.25 -1.85185E-006 E">
                                      <p:cBhvr>
                                        <p:cTn id="21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autoRev="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12916 -0.00555 E">
                                      <p:cBhvr>
                                        <p:cTn id="233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9"/>
          <p:cNvSpPr/>
          <p:nvPr/>
        </p:nvSpPr>
        <p:spPr>
          <a:xfrm>
            <a:off x="3048120" y="1447920"/>
            <a:ext cx="304776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4805640" cy="2740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286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828800" y="5715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Cinco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tres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28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3:26:26Z</dcterms:created>
  <dc:creator>Rebecca</dc:creator>
  <dc:description/>
  <dc:language>en-US</dc:language>
  <cp:lastModifiedBy>EM250</cp:lastModifiedBy>
  <dcterms:modified xsi:type="dcterms:W3CDTF">2010-07-19T17:00:40Z</dcterms:modified>
  <cp:revision>55</cp:revision>
  <dc:subject/>
  <dc:title>PowerPoint Presentation</dc:title>
</cp:coreProperties>
</file>